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bark.wav" ContentType="audio/x-wav"/>
  <Override PartName="/ppt/media/featurepresentation.wav" ContentType="audio/x-wav"/>
  <Override PartName="/ppt/media/image2.gif" ContentType="image/gif"/>
  <Override PartName="/ppt/media/image6.png" ContentType="image/png"/>
  <Override PartName="/ppt/media/image3.png" ContentType="image/png"/>
  <Override PartName="/ppt/media/image4.gif" ContentType="image/gif"/>
  <Override PartName="/ppt/media/image5.png" ContentType="image/png"/>
  <Override PartName="/ppt/media/image7.png" ContentType="image/png"/>
  <Override PartName="/ppt/media/briliant.wav" ContentType="audio/x-wav"/>
  <Override PartName="/ppt/media/image9.png" ContentType="image/png"/>
  <Override PartName="/ppt/media/image10.gif" ContentType="image/gif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31E2-CF8A-4F17-BBCE-1FCBA7EF3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2516-71D1-41F9-B14B-06604A3EC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2B19-6E60-4C22-9F59-D26848F70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2B9A-BC94-459F-AEF7-36D3524F4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05446-C376-408B-B269-04D41FEF2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7D895-7B60-4AAE-A00B-6268EADCD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63BBE-EBB7-49F0-B1FF-4878EA3C6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CA7CD-42DA-40EA-93EA-00D381366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85893-7512-4FEC-86CD-10FC05CB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D6DA2-697E-43DC-A84C-1FECB11F2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B201F-1C63-4539-9248-7507E23F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5CF1-87D5-4F7F-98AA-5A611AC79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AF7C5-F6C0-4601-B9BF-DCA177B8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B56F1-D303-45C6-8B1C-B7F7A57B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C6A44-192C-4CE0-9F16-775251251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703A9-3B77-495E-8977-DE1C71D3A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4B49F-73A1-46C0-A2A7-228BD1BA0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F691-F022-4A50-B9F8-C107DE220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6AEB-F265-4A92-B8B2-EBCCDE587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4884-4D1C-4BD5-8C60-3A9271676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4169-43C8-4772-94AE-FBA5E3D4C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D679-BEB1-4395-B47C-4CD820E2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6757-F1B3-4516-8E4D-38477E19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045C-4CA0-4A65-BFCA-F44B2F26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41F84-D76E-4143-B5F8-C69779E8985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6DB1A-AB53-4721-B83B-4277BD5C496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akesybelia.ocps.k12.fl.us/images/Excited.gif" TargetMode="External"/><Relationship Id="rId2" Type="http://schemas.openxmlformats.org/officeDocument/2006/relationships/image" Target="../media/image1.png"/><Relationship Id="rId3" Type="http://schemas.openxmlformats.org/officeDocument/2006/relationships/audio" Target="../media/featurepresentation.wav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audio" Target="../media/bark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briliant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uzyred.com/subjects.html" TargetMode="External"/><Relationship Id="rId2" Type="http://schemas.openxmlformats.org/officeDocument/2006/relationships/image" Target="../media/image8.gif"/><Relationship Id="rId3" Type="http://schemas.openxmlformats.org/officeDocument/2006/relationships/image" Target="../media/image9.png"/><Relationship Id="rId4" Type="http://schemas.openxmlformats.org/officeDocument/2006/relationships/hyperlink" Target="D:%255CCLICK-ME.pps" TargetMode="External"/><Relationship Id="rId5" Type="http://schemas.openxmlformats.org/officeDocument/2006/relationships/hyperlink" Target="D:%255CCLICK-ME.pps" TargetMode="External"/><Relationship Id="rId6" Type="http://schemas.openxmlformats.org/officeDocument/2006/relationships/image" Target="../media/image10.gif"/><Relationship Id="rId7" Type="http://schemas.openxmlformats.org/officeDocument/2006/relationships/hyperlink" Target="D:%5CCLICK-ME.pps" TargetMode="External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Arial"/>
              </a:rPr>
              <a:t>Subjects of Sentences</a:t>
            </a:r>
            <a:endParaRPr b="1" lang="en-US" sz="5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97180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Arial"/>
              </a:rPr>
              <a:t>Project LA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Excite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86400" y="2286000"/>
            <a:ext cx="2182680" cy="2514600"/>
          </a:xfrm>
          <a:prstGeom prst="rect">
            <a:avLst/>
          </a:prstGeom>
          <a:ln w="0">
            <a:noFill/>
          </a:ln>
        </p:spPr>
      </p:pic>
    </p:spTree>
  </p:cSld>
  <p:transition>
    <p:cover dir="ld"/>
    <p:sndAc>
      <p:stSnd>
        <p:snd r:embed="rId3" name="featurepresentation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24640" y="834120"/>
            <a:ext cx="89992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Every complete sentence contains two parts: a 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subject</a:t>
            </a: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 and a </a:t>
            </a: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predicate</a:t>
            </a: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subjec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s what (or whom) the sentence is about, while the </a:t>
            </a: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predicat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ells something about the subject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hat"/>
          <p:cNvPicPr/>
          <p:nvPr/>
        </p:nvPicPr>
        <p:blipFill>
          <a:blip r:embed="rId1"/>
          <a:stretch/>
        </p:blipFill>
        <p:spPr>
          <a:xfrm>
            <a:off x="6400800" y="4419720"/>
            <a:ext cx="213372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986400"/>
            <a:ext cx="86180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Judy and her dog</a:t>
            </a: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un on the beach every morning.</a:t>
            </a:r>
            <a:endParaRPr b="1" lang="en-US" sz="40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102" name="Picture 4" descr="beach1"/>
          <p:cNvPicPr/>
          <p:nvPr/>
        </p:nvPicPr>
        <p:blipFill>
          <a:blip r:embed="rId1"/>
          <a:stretch/>
        </p:blipFill>
        <p:spPr>
          <a:xfrm>
            <a:off x="1371600" y="2362320"/>
            <a:ext cx="6781680" cy="4660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dogrun"/>
          <p:cNvPicPr/>
          <p:nvPr/>
        </p:nvPicPr>
        <p:blipFill>
          <a:blip r:embed="rId2"/>
          <a:stretch/>
        </p:blipFill>
        <p:spPr>
          <a:xfrm>
            <a:off x="2362320" y="2133720"/>
            <a:ext cx="2462040" cy="4476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jogging"/>
          <p:cNvPicPr/>
          <p:nvPr/>
        </p:nvPicPr>
        <p:blipFill>
          <a:blip r:embed="rId3"/>
          <a:stretch/>
        </p:blipFill>
        <p:spPr>
          <a:xfrm>
            <a:off x="5638680" y="3657600"/>
            <a:ext cx="2133720" cy="274320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4" name="bark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986400"/>
            <a:ext cx="86180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udy and her dog</a:t>
            </a: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un on the beach every morning.</a:t>
            </a:r>
            <a:endParaRPr b="1" lang="en-US" sz="40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jogging"/>
          <p:cNvPicPr/>
          <p:nvPr/>
        </p:nvPicPr>
        <p:blipFill>
          <a:blip r:embed="rId1"/>
          <a:stretch/>
        </p:blipFill>
        <p:spPr>
          <a:xfrm>
            <a:off x="7162920" y="5029200"/>
            <a:ext cx="118584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dogrun"/>
          <p:cNvPicPr/>
          <p:nvPr/>
        </p:nvPicPr>
        <p:blipFill>
          <a:blip r:embed="rId2"/>
          <a:stretch/>
        </p:blipFill>
        <p:spPr>
          <a:xfrm>
            <a:off x="5638680" y="4724280"/>
            <a:ext cx="1462320" cy="18097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7"/>
          <p:cNvSpPr/>
          <p:nvPr/>
        </p:nvSpPr>
        <p:spPr>
          <a:xfrm>
            <a:off x="914400" y="2514600"/>
            <a:ext cx="68580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or what is this sentence about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answer is the </a:t>
            </a: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subject, Judy and her dog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986400"/>
            <a:ext cx="86180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Arial"/>
              </a:rPr>
              <a:t>Let’s try one:</a:t>
            </a:r>
            <a:endParaRPr b="1" lang="en-US" sz="48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3123720"/>
            <a:ext cx="76932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e spilled popcorn on the floor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838080" y="5029200"/>
            <a:ext cx="7693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popcorn1"/>
          <p:cNvPicPr/>
          <p:nvPr/>
        </p:nvPicPr>
        <p:blipFill>
          <a:blip r:embed="rId1"/>
          <a:stretch/>
        </p:blipFill>
        <p:spPr>
          <a:xfrm>
            <a:off x="7391520" y="304920"/>
            <a:ext cx="1523880" cy="1657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boygirlyeah"/>
          <p:cNvPicPr/>
          <p:nvPr/>
        </p:nvPicPr>
        <p:blipFill>
          <a:blip r:embed="rId2"/>
          <a:stretch/>
        </p:blipFill>
        <p:spPr>
          <a:xfrm>
            <a:off x="4724280" y="838080"/>
            <a:ext cx="2857680" cy="11145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986400"/>
            <a:ext cx="86180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Arial"/>
              </a:rPr>
              <a:t>Who or what is the subject?</a:t>
            </a:r>
            <a:endParaRPr b="1" lang="en-US" sz="48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 spilled popcorn on the flo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838080" y="3657600"/>
            <a:ext cx="7693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6600"/>
                </a:solidFill>
                <a:uFillTx/>
                <a:latin typeface="Arial"/>
              </a:rPr>
              <a:t>W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spilled popcorn on the flo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 tells who spilled the popcor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boygirlyeah"/>
          <p:cNvPicPr/>
          <p:nvPr/>
        </p:nvPicPr>
        <p:blipFill>
          <a:blip r:embed="rId1"/>
          <a:stretch/>
        </p:blipFill>
        <p:spPr>
          <a:xfrm>
            <a:off x="6286680" y="5743440"/>
            <a:ext cx="2857320" cy="1114560"/>
          </a:xfrm>
          <a:prstGeom prst="rect">
            <a:avLst/>
          </a:prstGeom>
          <a:ln w="0">
            <a:noFill/>
          </a:ln>
        </p:spPr>
      </p:pic>
    </p:spTree>
  </p:cSld>
  <p:transition>
    <p:cover dir="ld"/>
    <p:sndAc>
      <p:stSnd>
        <p:snd r:embed="rId2" name="briliant.wav"/>
      </p:stSnd>
    </p:sndAc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Can you find the 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subject</a:t>
            </a: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 in each sentence below?</a:t>
            </a:r>
            <a:endParaRPr b="1" lang="en-US" sz="40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y little brother broke his fing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s Uncle Bob asked for directi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ose students carried book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r babysitter arrived la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986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Did you find the 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subject</a:t>
            </a: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 in each sentence below?</a:t>
            </a:r>
            <a:endParaRPr b="1" lang="en-US" sz="40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9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00"/>
                </a:solidFill>
                <a:uFillTx/>
                <a:latin typeface="Arial"/>
              </a:rPr>
              <a:t>My little broth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broke his fing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00"/>
                </a:solidFill>
                <a:uFillTx/>
                <a:latin typeface="Arial"/>
              </a:rPr>
              <a:t>His Uncle Bo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sked for direc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00"/>
                </a:solidFill>
                <a:uFillTx/>
                <a:latin typeface="Arial"/>
              </a:rPr>
              <a:t>Those student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arried book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00"/>
                </a:solidFill>
                <a:uFillTx/>
                <a:latin typeface="Arial"/>
              </a:rPr>
              <a:t>Our babysitt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rrived lat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1480" y="3958200"/>
            <a:ext cx="83898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Arial"/>
              </a:rPr>
              <a:t>Now that you know all about subjects and predicates, try the subject and predicate song and sing along!  </a:t>
            </a:r>
            <a:endParaRPr b="1" lang="en-US" sz="44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124" name="Picture 4" descr="clickhereno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33720" y="5486400"/>
            <a:ext cx="2057400" cy="907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kids_line_2"/>
          <p:cNvPicPr/>
          <p:nvPr/>
        </p:nvPicPr>
        <p:blipFill>
          <a:blip r:embed="rId3"/>
          <a:stretch/>
        </p:blipFill>
        <p:spPr>
          <a:xfrm>
            <a:off x="2514600" y="685800"/>
            <a:ext cx="4724280" cy="110484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12">
            <a:hlinkClick r:id="rId4"/>
          </p:cNvPr>
          <p:cNvSpPr/>
          <p:nvPr/>
        </p:nvSpPr>
        <p:spPr>
          <a:xfrm>
            <a:off x="6172200" y="5181480"/>
            <a:ext cx="1676520" cy="1219320"/>
          </a:xfrm>
          <a:custGeom>
            <a:avLst/>
            <a:gdLst>
              <a:gd name="textAreaLeft" fmla="*/ 78840 w 1676520"/>
              <a:gd name="textAreaRight" fmla="*/ 1597680 w 167652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3" descr="logo-projectla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629400" y="5238720"/>
            <a:ext cx="762120" cy="7048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4"/>
          <p:cNvSpPr/>
          <p:nvPr/>
        </p:nvSpPr>
        <p:spPr>
          <a:xfrm>
            <a:off x="6400800" y="5851440"/>
            <a:ext cx="12193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cc"/>
                </a:solidFill>
                <a:uFillTx/>
                <a:latin typeface="Arial Unicode MS"/>
                <a:hlinkClick r:id="rId7"/>
              </a:rPr>
              <a:t>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3T03:24:38Z</dcterms:created>
  <dc:creator>Jefferson County Schools</dc:creator>
  <dc:description/>
  <dc:language>en-US</dc:language>
  <cp:lastModifiedBy>Laura McDow</cp:lastModifiedBy>
  <dcterms:modified xsi:type="dcterms:W3CDTF">2010-07-29T16:32:57Z</dcterms:modified>
  <cp:revision>14</cp:revision>
  <dc:subject/>
  <dc:title>Subjects &amp; Predicates</dc:title>
</cp:coreProperties>
</file>